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F83-F716-4DF8-9B2F-063B95C8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3D6-38A3-474E-B766-670B70081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27A-DF0A-4982-82C4-7FDC1698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6656-878B-40E0-8255-F945FACD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DCE2-88BB-4D8E-8709-19ED9915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B2B9-CD58-497C-8F22-38216A4C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9CD9-1659-4860-A250-0CC59BD9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FC07-C9B0-4333-AA44-8876EE5D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BD52-CD41-4027-86D8-E0F5C91F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253C-327B-42EE-9D39-52CC0E60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1F0B-E1EC-4B47-A7DC-12C03C6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CF0-E6DB-4ADC-8630-FBC2F1F0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0977-3A6D-49BD-8982-1362232F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0351-2DFD-4390-8A5E-9479C89F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C5CE-9BF7-43D2-8092-5FBAD134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0891-7583-43AF-80E7-68C2D8E7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A2E1-66C3-4AE8-9C50-20537169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38F-ADA8-44FA-A7A5-6AA507EE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BDD-EBAF-41D3-B7DD-6FE983E6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D6B-48EB-4FC9-BE07-B05367D2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49E-5441-416D-AD00-75F64598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BC2-8A56-4A4E-8094-E2BD5160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46A-2114-4CA8-B808-99429DF6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03B-9A2B-45B7-A45C-7E7846C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9F57-ED5C-4713-ADE5-16A2E674EB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737C-E6C6-4844-9F15-3364B1DFB9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hor Name Disambiguation in Med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tle I. Torvik 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il R. Smalhei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ust 31,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lustering “all” papers in Medline according to author-individua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we compute all pairwise probabilities for each (last name, first initial) modified with triplet cor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we form clust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p = 0.95 (high precisio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at p = 0.5 (high recall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the chance is greater than 0.5 that it belongs to some cluster, or it stays as a single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rst-Pass Disambigua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 Complete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 for several hundred names having more than ~3000 papers each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memory limit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ssess if the model is reliable for the biggest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now, proceed for papers giving first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ing for over-clustering and under-clust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izing global stat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mediate Next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te the cluste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vs. new pa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ce of miss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frequ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tons, least confident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date the web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95400"/>
            <a:ext cx="9753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04920" y="95400"/>
            <a:ext cx="9753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304920" y="95400"/>
            <a:ext cx="97538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coming Grant Renew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 1: Special C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 reversal, hyphenated names, spelling errors, Gerald vs. Jerry, Rick vs. A. Ri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o-author assignment to help disambiguate another co-auth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 confidence level of assignment for each paper, identify least confident assign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coming Grant Renew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 2: Update th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 model covers 1966-present, but new papers have different information, MeSH, emails, onlin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training sets with recent pap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urnal name partial m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words matc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filiations matched to each authors in PMC, online pa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 Cited information taken from PM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coming Grant Renew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 3: Web Interf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he pairwise interface (given name, a particular paper, list all others in order of match prob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 clusters – given a name, show all clusters of author-individuals, link to Community of Science, searchable by attributes, can summarize and explore further (Anne O’Tate too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 profile/collaboration finder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de available for bibliometrics and collaboration network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pcoming Grant Renewal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 4: Cu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ator to identify errors and least-confident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hine methods (e.g. wobble in cluste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the database and alter the model as nee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ki Authors – will monitor postings to Wiki and change the database as verified and warranted (e.g. maiden name to married na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0320" y="569880"/>
            <a:ext cx="762156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tatistically Based Model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ypothesis: an individual tends to publish papers with similar attributes, sufficiently so that these attributes suffice to disambiguate the auth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ase of Dr. Tom Job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, automatically generated training sets of pairs of articles matching (Last Name, First Initial) written by the same person vs. by different individua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ix if present (III, Jr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ddle initial m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l model got very good performance without using first names at a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name (if available in Medline, or if it can be scraped from online pap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pelling vari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ticl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urnal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o-author names in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filiation words in comm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ot be given for all co-auth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 correlations with affiliations (e.g. Ito and Japan are correla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 of the arti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 words in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ail addresses, if giv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 to right auth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H headings in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Monotone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air of papers creates a vector of 10 dimensions, each of which has a matching sco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monotonicity [more attributes in common, more likely written by the same person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s for nonlinear and interactive effects across dim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imate Pairwise Frequen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given pair of articles, compute the match vector, then look up its frequencies in pos vs. neg training sets:  ratio = R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given name, estimate the a priori probability P that any two papers will be written by the sam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whole story in itself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/[1 + (1-P)/PR] = probability of a m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uthor-ity Site at (http://arrowsmith.psych.uic.ed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yond Pairwise Comparis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and B share titles, jour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and C share co-authors, affil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A and C share nothing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p(AC) must b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p(AB) + p(BC) -1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angle inequality using probabilities, detect and correct anomal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missing data or higher order cor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tch un-characteristic papers by an auth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ong story to optimize the method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00:45:35Z</dcterms:created>
  <dc:creator>Nsmalheiser</dc:creator>
  <dc:description/>
  <dc:language>en-US</dc:language>
  <cp:lastModifiedBy>Academic Computing and Communications Center</cp:lastModifiedBy>
  <dcterms:modified xsi:type="dcterms:W3CDTF">2006-08-30T02:35:23Z</dcterms:modified>
  <cp:revision>45</cp:revision>
  <dc:subject/>
  <dc:title>Author Name Disambiguation in Med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13574405</vt:r8>
  </property>
  <property fmtid="{D5CDD505-2E9C-101B-9397-08002B2CF9AE}" pid="3" name="_AuthorEmail">
    <vt:lpwstr>smalheiser@psych.uic.edu</vt:lpwstr>
  </property>
  <property fmtid="{D5CDD505-2E9C-101B-9397-08002B2CF9AE}" pid="4" name="_AuthorEmailDisplayName">
    <vt:lpwstr>Smalheiser, Neil</vt:lpwstr>
  </property>
  <property fmtid="{D5CDD505-2E9C-101B-9397-08002B2CF9AE}" pid="5" name="_EmailSubject">
    <vt:lpwstr>here is the final talk</vt:lpwstr>
  </property>
</Properties>
</file>