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595-ACAE-40E9-A1FE-13BD26E8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2A2-43D4-4270-91A7-203F3075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2B97-2128-47F5-A614-CE54ED66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963-DFF2-4228-B227-18837336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4956-5DEF-4EDC-8045-5D1BFD8D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612D-8DAD-4277-870B-9A26E95B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43C3-78D2-4316-9476-0EA50F72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A346-369A-4899-B44D-E426EA0B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22A0-FE9E-4ACF-BA2D-523C8F22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F4DA-81FE-423A-AC5D-2D6D67E0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6727-B1B2-4B3F-BCDA-A6FB108D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64B8-D4FD-4EFD-8125-C52E77E4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75A7-A1C9-4099-9DC2-4348A23F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E3F7-F314-4237-AD2A-0122ED44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791D-6803-46D5-A4F6-28371709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3E48-14F2-42AA-ABA1-832692A7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BB4D-312F-4FF4-9A5A-28BFAB28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68E-85BB-41B9-BF75-1EC64970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5B6-79B6-4E9A-B76E-C90F9374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CC2-57B2-472D-93E4-AC61B73A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5838-3EEE-494F-8C91-9B0AAE56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824-0CB3-42A0-AF0C-5A410F5F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BAE-B354-4E77-AFA6-A04ECD83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EFD-DA39-44FA-A6B8-B213F60A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FBCE-92D6-4B5E-9FB0-CC1758C57A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689B-A6FD-4BE3-B27C-E0AA1713DA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uthor Name Disambiguation in Med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tle I. Torvik 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il R. Smalhei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ust 31,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ustering “all” papers in Medline according to author-individua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we compute all pairwise probabilities for each (last name, first initial) modified with triplet cor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we form clust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p = 0.95 (high precisio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at p = 0.5 (high recall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the chance is greater than 0.5 that it belongs to some cluster, or it stays as a single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rst-Pass Disambigua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 Complete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 for several hundred names having more than ~3000 papers each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memory limit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ssess if the model is reliable for the biggest n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now, proceed for papers giving first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ing for over-clustering and under-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izing global stat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mediate Next Ste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te the cluste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d vs. new pa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ce of miss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frequ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tons, least confident assig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date the web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04920" y="95400"/>
            <a:ext cx="9753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304920" y="95400"/>
            <a:ext cx="9753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304920" y="95400"/>
            <a:ext cx="9753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pcoming Grant Renewa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 1: Special C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reversal, hyphenated names, spelling errors, Gerald vs. Jerry, Rick vs. A. Ri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co-author assignment to help disambiguate another co-auth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e confidence level of assignment for each paper, identify least confident assignme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pcoming Grant Renewa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 2: Update th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l model covers 1966-present, but new papers have different information, MeSH, emails, onlin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training sets with recent pap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urnal name partial m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words matc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filiations matched to each authors in PMC, online pa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 Cited information taken from PM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pcoming Grant Renewa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 3: Web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he pairwise interface (given name, a particular paper, list all others in order of match prob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w clusters – given a name, show all clusters of author-individuals, link to Community of Science, searchable by attributes, can summarize and explore further (Anne O’Tate t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 profile/collaboration finde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ade available for bibliometrics and collaboration network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pcoming Grant Renewa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 4: Cu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ator to identify errors and least-confident assig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l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hine methods (e.g. wobble in cluste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the database and alter the model as nee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ki Authors – will monitor postings to Wiki and change the database as verified and warranted (e.g. maiden name to married na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507960" y="-380880"/>
            <a:ext cx="1015992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0320" y="569880"/>
            <a:ext cx="7621560" cy="57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tatistically Based Model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pothesis: an individual tends to publish papers with similar attributes, sufficiently so that these attributes suffice to disambiguate the auth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ase of Dr. Tom Job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, automatically generated training sets of pairs of articles matching (Last Name, First Initial) written by the same person vs. by different individua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e Attribu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ix if present (III, Jr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ddle initial m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l model got very good performance without using first names at a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name (if available in Medline, or if it can be scraped from online pap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pelling vari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cle Attribu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urnal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o-author names in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filiation words in comm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ot be given for all co-auth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 correlations with affiliations (e.g. Ito and Japan are correla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guage of the arti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tle words in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ail addresses, if giv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 to right auth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H headings in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Monoton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pair of papers creates a vector of 10 dimensions, each of which has a matching sco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monotonicity [more attributes in common, more likely written by the same person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for nonlinear and interactive effects across dim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imate Pairwise Frequen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given pair of articles, compute the match vector, then look up its frequencies in pos vs. neg training sets:  ratio = R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given name, estimate the a priori probability P that any two papers will be written by the sam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a whole story in itself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/[1 + (1-P)/PR] = probability of a m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uthor-ity Site at (http://arrowsmith.psych.uic.ed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yond Pairwise Comparis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and B share titles, jour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and C share co-authors, affil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A and C share nothing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p(AC) must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p(AB) + p(BC) -1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angle inequality using probabilities, detect and correct anomal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missing data or higher order corre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tch un-characteristic papers by an auth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ong story to optimize the method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00:45:35Z</dcterms:created>
  <dc:creator>Nsmalheiser</dc:creator>
  <dc:description/>
  <dc:language>en-US</dc:language>
  <cp:lastModifiedBy>Academic Computing and Communications Center</cp:lastModifiedBy>
  <dcterms:modified xsi:type="dcterms:W3CDTF">2006-08-30T02:35:23Z</dcterms:modified>
  <cp:revision>45</cp:revision>
  <dc:subject/>
  <dc:title>Author Name Disambiguation in Medl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13574405</vt:r8>
  </property>
  <property fmtid="{D5CDD505-2E9C-101B-9397-08002B2CF9AE}" pid="3" name="_AuthorEmail">
    <vt:lpwstr>smalheiser@psych.uic.edu</vt:lpwstr>
  </property>
  <property fmtid="{D5CDD505-2E9C-101B-9397-08002B2CF9AE}" pid="4" name="_AuthorEmailDisplayName">
    <vt:lpwstr>Smalheiser, Neil</vt:lpwstr>
  </property>
  <property fmtid="{D5CDD505-2E9C-101B-9397-08002B2CF9AE}" pid="5" name="_EmailSubject">
    <vt:lpwstr>here is the final talk</vt:lpwstr>
  </property>
</Properties>
</file>