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31E-AF23-4CC5-87EF-B1D8CC96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0B0-771B-4A4F-9A13-483A228F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EE3-AC01-4B14-BE51-73244DA58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660-94FB-4486-8D0E-3AE5FD31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66F0-CB34-4791-B34C-BC11D161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56DC-5313-4965-95D6-86CBF018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8D4C-77FF-4F47-94B1-C6604CB4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FFA5-F34E-4879-ADD8-E1E3F3BC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FD62-DDBB-4C30-A372-F69E3403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FA2E-9144-42CA-B258-066CD0A5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C6F0-4D7F-4F31-AF5F-42746122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CEB-ECA7-4E92-9ED4-F31322DB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2943-E457-4310-B479-16FA8623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C9AE-9013-49BB-AB1E-31FF8E2A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B48D-CC5E-418B-A0B2-C790E1E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2F4F-8529-4896-AE9F-238E92E5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C239-1219-457C-8925-B7501BF0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F24-5385-46A7-BEBA-0244B087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5D5-D2D3-41F2-AC9C-A2295193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4813-6F8E-4C7E-8D66-E7EE0860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5C3-205F-4B4C-B986-DEBCBC33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6A68-EE5D-46D8-82C3-9D67EDBB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C36-71DC-4FDF-9F2C-9D8550E2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96C3-D69D-448E-A757-17F7A44A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5DC8-232B-40EE-A9E0-A77CBC7ACF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6331-3885-46FD-89BE-02FD4E2537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81080" y="304920"/>
            <a:ext cx="617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4114800"/>
          </a:xfrm>
          <a:prstGeom prst="rect">
            <a:avLst/>
          </a:prstGeom>
          <a:gradFill rotWithShape="0">
            <a:gsLst>
              <a:gs pos="0">
                <a:srgbClr val="456b51">
                  <a:alpha val="75294"/>
                </a:srgbClr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2666880"/>
            <a:ext cx="6172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ding Biomedical Researc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ools to Assist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il R. Smalhei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18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quantitative model for filtering and ranking B-te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though each search is different, and each person has their own idea of “relevance”, can identify features that are associated with chosen B-te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se 5 gold standards, with user-chosen positive and *negative B-te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d all 7 features into single logistic regression model (optimal weighting of each feature, 1 score for each B-term; score varies for each 2 node sear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023840" y="476280"/>
          <a:ext cx="7097760" cy="5905440"/>
        </p:xfrm>
        <a:graphic>
          <a:graphicData uri="http://schemas.openxmlformats.org/drawingml/2006/table">
            <a:tbl>
              <a:tblPr/>
              <a:tblGrid>
                <a:gridCol w="239760"/>
                <a:gridCol w="1673280"/>
                <a:gridCol w="1454040"/>
                <a:gridCol w="530280"/>
                <a:gridCol w="3200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-literature quer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-literature qu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w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-ter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evant B-terms sou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nal detachment[ti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51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ortic aneurysm[ti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56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22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 diseases or syndromes in which both features have b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bed n = 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 surgical procedures used for diagnosis or treatment o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th n =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lur5[ti] OR (metabotropic glutamate receptor[ti] OR metabotropic glutama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s[ti]) n = 2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wy body[ti] OR Lewy bodies[ti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) signaling molecules that directly or indirectly modulate 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modulated by mGluR5 and that either modulate Lew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dies or are altered in diseases that have Lewy bod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) specific brain regions studied in both n = 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magnesium"[MeSH Terms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magnesium[ti] 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"1900"[PDAT]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1987/12/31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PDAT])  n = 62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"migraine disorders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eSH] AND migraine[ti]) AND ("1900"[PDAT] : "1987/12/31"[PDAT]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3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8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s described as relevant in the JASIST paper (ref. 23, in Appendix) excluding two judged too general to be usefu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eactivity and spread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ta-amyloid precursor pro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ti] OR amyloid precurso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in[ti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APP[ti] AND ("amyloid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eSH Terms] OR amylo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Text Word]) n = 2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elin[All Fields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1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s or proteins shared in Reelin and APP (amylo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ursor protein) signal transduction pathway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"nitric oxide"[MeSH Terms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nitric oxide[ti]) AND (("mitochondria"[MeS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s] OR mitochondria[ti]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mitochondrial[ti]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sd[ti] OR psd93[ti] O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sd95[ti] OR psds[ti]) OR "postsynaptic density"[ti]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 "postsynapt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nsities"[ti] n = 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5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ological or pathological responses that link the a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nitric oxide on mitochondria and the normal function of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-synaptic densit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= 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Findings of th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herence was most important in identifying relevant B-term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 value, semantic category mapping, frequency and recency all contributed significantly as well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5% of the marked relevant B-terms in the gold standard searches were terms found on the 1400 word stoplist (e.g., Down Syndrom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1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2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684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now rank all B-terms rigorously and automatically, in order of the probability that they will be found relevant by SOM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now predict the NUMBER of relevant B-terms in any given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pply to B-terms arising within abstr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ow have a global measure of OVERALL implicit information linking two (topical, disjoint) literatur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pply to one node searches too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two node search can now be conducted and analyzed in a matter of minutes, not hours or d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utilized by the general scientific public for a variety of information needs, including but NOT restricted to searching for and assessing hypothe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s to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tle Torvi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 Swan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 Zho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yann Martone &amp; Guy Perk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min Homayou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b Bilder &amp; Don Ka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on Swans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ndiscovered Public Knowled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affects B”, (separately) “B affects C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A affect C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ieces are all public, but need to be put together to see a pat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ne node (open) search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mulate a problem (literature 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 a different literature C containing complementary inform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mplic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ink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A and 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… most scientists already have more hypotheses and leads than they can hand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Two Node (Closed) Sear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A and C is either known (often newly discovered) or hypothes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ine title terms B in common between A and C as possibly pointing to meaningful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and C don’t have to be disjoin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8704440" y="3975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Arrowsmith Project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man Brain Project, NLM, NIM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 web interfaces for one and two node sear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the system further in collaboration with neuroscience field te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ttp://arrowsmith.psych.uic.ed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24382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25600" y="2017800"/>
            <a:ext cx="6284880" cy="471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ssons from Field Tes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Arrowsmith two node search for many daily information nee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ding, assessing or prioritizing hypo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ms studied in common to two liter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wsing unfamiliar lit C for the subset that is likely to be most relevant to familiar lit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smith as an extension of PubMed sear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ssons for the “Back En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node searches need to be fast (seconds, not minutes)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-list needs to be assessed quickly (seconds or minutes, not 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be compreh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find only “novel” lin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tering and Ranking B-te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s permitting users to filter and rank B-ter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 categ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istic-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h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20:30:07Z</dcterms:created>
  <dc:creator>Jeff Williamson</dc:creator>
  <dc:description/>
  <dc:language>en-US</dc:language>
  <cp:lastModifiedBy>Academic Computing and Communications Center</cp:lastModifiedBy>
  <dcterms:modified xsi:type="dcterms:W3CDTF">2006-05-18T01:37:04Z</dcterms:modified>
  <cp:revision>7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6691443</vt:r8>
  </property>
  <property fmtid="{D5CDD505-2E9C-101B-9397-08002B2CF9AE}" pid="3" name="_AuthorEmail">
    <vt:lpwstr>smalheiser@psych.uic.edu</vt:lpwstr>
  </property>
  <property fmtid="{D5CDD505-2E9C-101B-9397-08002B2CF9AE}" pid="4" name="_AuthorEmailDisplayName">
    <vt:lpwstr>Smalheiser, Neil</vt:lpwstr>
  </property>
  <property fmtid="{D5CDD505-2E9C-101B-9397-08002B2CF9AE}" pid="5" name="_EmailSubject">
    <vt:lpwstr>can add this to the reference list when you get a chance....</vt:lpwstr>
  </property>
</Properties>
</file>