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ct" ContentType="image/x-pict"/>
  <Override PartName="/ppt/media/image4.pct" ContentType="image/x-pict"/>
  <Override PartName="/ppt/media/image5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555A-8D17-4397-82AC-5A394927E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7A90-F67A-4C8E-9523-ED0D13418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C369-2EAF-4C4E-8D47-A719BBE4D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0237-48DB-4920-9032-9C397F2DC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E7D68-128A-4F75-B21B-4664DB0DD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B22E0-A8F3-4C83-A1D7-44A15FDEA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A2D01-82A3-42EF-9012-075D248E6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78C72-0174-4CD8-8C0C-3C34DA41A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49963-E389-4CCC-92B9-FA63BCA9F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795BB-5965-462F-96E7-44E8C3473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75F56-94A1-4FC4-A8D1-B2A9AA2D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E6BA-E392-49D6-AEA8-28645B266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6C070-7C1E-4C37-86B1-6245107F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61FAF-AA68-4ABA-B57B-3EF42CF1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DB6FB-4CA1-4205-B359-7121DC98A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BD6F9-E479-4D47-BB7C-7AA9F05B4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D9BC9-0AAE-4014-9CEC-4558EECA0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2154-05B6-4FCE-A33A-7DD854A62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FCB8-378A-4FF1-A9E5-230CA7D6B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6A84-0797-4D4E-AF2A-648DF889E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B214-F56B-4E0D-A28E-116C1F698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DE59-DF20-4DD6-A205-9F48B150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FF17-68FD-4CA9-89CC-B28D6F966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BF3C-3FC2-4B00-8103-90E66BB9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2E79B-D530-4893-938A-AA417E55D58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2DE04-448D-405A-9635-337BF4A6DD5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981080" y="304920"/>
            <a:ext cx="6172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143000"/>
            <a:ext cx="9144000" cy="4114800"/>
          </a:xfrm>
          <a:prstGeom prst="rect">
            <a:avLst/>
          </a:prstGeom>
          <a:gradFill rotWithShape="0">
            <a:gsLst>
              <a:gs pos="0">
                <a:srgbClr val="456b51">
                  <a:alpha val="75294"/>
                </a:srgbClr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193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600200" y="2666880"/>
            <a:ext cx="61722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iding Biomedical Research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 Tools to Assist Disco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il R. Smalhei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 18,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quantitative model for filtering and ranking B-ter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though each search is different, and each person has their own idea of “relevance”, can identify features that are associated with chosen B-ter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ose 5 gold standards, with user-chosen positive and *negative B-ter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ed all 7 features into single logistic regression model (optimal weighting of each feature, 1 score for each B-term; score varies for each 2 node searc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1023840" y="476280"/>
          <a:ext cx="7097760" cy="5905440"/>
        </p:xfrm>
        <a:graphic>
          <a:graphicData uri="http://schemas.openxmlformats.org/drawingml/2006/table">
            <a:tbl>
              <a:tblPr/>
              <a:tblGrid>
                <a:gridCol w="239760"/>
                <a:gridCol w="1673280"/>
                <a:gridCol w="1454040"/>
                <a:gridCol w="530280"/>
                <a:gridCol w="320040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-literature query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-literature que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w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-term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levant B-terms sough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tinal detachment[ti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= 51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ortic aneurysm[ti]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= 56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= 22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) diseases or syndromes in which both features have be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cribed n = 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) surgical procedures used for diagnosis or treatment of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th n = 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3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lur5[ti] OR (metabotropic glutamate receptor[ti] OR metabotropic glutamat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ceptors[ti]) n = 2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wy body[ti] OR Lewy bodies[ti]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= 11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= 8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) signaling molecules that directly or indirectly modulate 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e modulated by mGluR5 and that either modulate Lewy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dies or are altered in diseases that have Lewy bodi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= 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) specific brain regions studied in both n = 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magnesium"[MeSH Terms]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D magnesium[ti] 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"1900"[PDAT] 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1987/12/31"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PDAT])  n = 62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"migraine disorders"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MeSH] AND migraine[ti]) AND ("1900"[PDAT] : "1987/12/31"[PDAT]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= 32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= 18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rms described as relevant in the JASIST paper (ref. 23, in Appendix) excluding two judged too general to be usefu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reactivity and spreading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= 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ta-amyloid precursor prote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ti] OR amyloid precurso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tein[ti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 APP[ti] AND ("amyloid"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MeSH Terms] OR amylo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Text Word]) n = 21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elin[All Fields]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= 4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= 10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nes or proteins shared in Reelin and APP (amyloid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cursor protein) signal transduction pathway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= 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"nitric oxide"[MeSH Terms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 nitric oxide[ti]) AND (("mitochondria"[MeSH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rms] OR mitochondria[ti]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 mitochondrial[ti]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= 7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psd[ti] OR psd93[ti] O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sd95[ti] OR psds[ti]) OR "postsynaptic density"[ti]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 "postsynaptic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nsities"[ti] n = 5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= 5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ysiological or pathological responses that link the actio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f nitric oxide on mitochondria and the normal function of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t-synaptic densiti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= 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me Findings of the Mod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herence was most important in identifying relevant B-terms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 value, semantic category mapping, frequency and recency all contributed significantly as well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gt; 5% of the marked relevant B-terms in the gold standard searches were terms found on the 1400 word stoplist (e.g., Down Syndrome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10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21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43800" cy="6846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mplic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now rank all B-terms rigorously and automatically, in order of the probability that they will be found relevant by SOM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now predict the NUMBER of relevant B-terms in any given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pply to B-terms arising within abstra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now have a global measure of OVERALL implicit information linking two (topical, disjoint) literatur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pply to one node searches too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two node search can now be conducted and analyzed in a matter of minutes, not hours or day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utilized by the general scientific public for a variety of information needs, including but NOT restricted to searching for and assessing hypothe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s to…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tle Torvi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 Swans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i Zho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ryann Martone &amp; Guy Perki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min Homayoun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ob Bilder &amp; Don Ka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on Swanson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Undiscovered Public Knowledg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affects B”, (separately) “B affects C”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es A affect C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pieces are all public, but need to be put together to see a patte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3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ne node (open) search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mulate a problem (literature 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d a different literature C containing complementary inform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 o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implici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link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A and 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… most scientists already have more hypotheses and leads than they can handl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he Two Node (Closed) Search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A and C is either known (often newly discovered) or hypothes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ine title terms B in common between A and C as possibly pointing to meaningful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and C don’t have to be disjoint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8704440" y="3975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he Arrowsmith Project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uman Brain Project, NLM, NIM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blic web interfaces for one and two node search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 the system further in collaboration with neuroscience field test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http://arrowsmith.psych.uic.edu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1600200" y="243828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325600" y="2017800"/>
            <a:ext cx="6284880" cy="4713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ssons from Field Test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Arrowsmith two node search for many daily information nee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ding, assessing or prioritizing hypothe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ems studied in common to two litera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wsing unfamiliar lit C for the subset that is likely to be most relevant to familiar lit 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rowsmith as an extension of PubMed sear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ssons for the “Back End”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node searches need to be fast (seconds, not minutes)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-list needs to be assessed quickly (seconds or minutes, not hou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need to be comprehens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need to find only “novel” lin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tering and Ranking B-ter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atures permitting users to filter and rank B-term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antic catego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racteristic-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h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p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2T20:30:07Z</dcterms:created>
  <dc:creator>Jeff Williamson</dc:creator>
  <dc:description/>
  <dc:language>en-US</dc:language>
  <cp:lastModifiedBy>Academic Computing and Communications Center</cp:lastModifiedBy>
  <dcterms:modified xsi:type="dcterms:W3CDTF">2006-05-18T01:37:04Z</dcterms:modified>
  <cp:revision>7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336691443</vt:r8>
  </property>
  <property fmtid="{D5CDD505-2E9C-101B-9397-08002B2CF9AE}" pid="3" name="_AuthorEmail">
    <vt:lpwstr>smalheiser@psych.uic.edu</vt:lpwstr>
  </property>
  <property fmtid="{D5CDD505-2E9C-101B-9397-08002B2CF9AE}" pid="4" name="_AuthorEmailDisplayName">
    <vt:lpwstr>Smalheiser, Neil</vt:lpwstr>
  </property>
  <property fmtid="{D5CDD505-2E9C-101B-9397-08002B2CF9AE}" pid="5" name="_EmailSubject">
    <vt:lpwstr>can add this to the reference list when you get a chance....</vt:lpwstr>
  </property>
</Properties>
</file>